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AEE1-015B-4DE2-A6F1-6E0D581AB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1748-5051-40BD-A16D-F2F0D2C3F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9896-A2E1-4695-83DC-C74B53C4D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C5FC-22F1-4512-838A-E55A54435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34D9-9DE9-4B95-9EA0-821F24409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90DA-8EA0-418D-AEA3-ADE46573E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6942-273F-4C1D-ADE2-FE2A738FD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2F38-A6E6-40B9-966E-1CD9351FF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5063-5FE4-4C74-9AF7-DA0119761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87AE-30AE-4624-A69D-220E2B8D8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CC15-C518-40EC-8672-48116CF5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F6B3-8501-4B29-9A92-A2D1CA7F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A7D3B-32FC-4952-9DBA-2AB90A3030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in%20título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Sin%20título-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in%20título-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Sin%20título-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Sin%20título-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Sin%20título-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Sin%20título-1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Sin%20título-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Sin%20título-1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Sin%20título-1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Sin%20título-1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in%20título-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Sin%20título-2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Sin%20título-2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Sin%20título-2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Sin%20título-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Sin%20título-2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Sin%20título-2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Sin%20título-2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Sin%20título-2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Sin%20título-2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Sin%20título-2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in%20título-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in%20título-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in%20título-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in%20título-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in%20título-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in%20título-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in%20título-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06:48Z</dcterms:created>
  <dc:creator>Grupo Editorial</dc:creator>
  <dc:description/>
  <dc:language>en-US</dc:language>
  <cp:lastModifiedBy>Grupo Editorial</cp:lastModifiedBy>
  <dcterms:modified xsi:type="dcterms:W3CDTF">2001-09-20T15:12:20Z</dcterms:modified>
  <cp:revision>1</cp:revision>
  <dc:subject/>
  <dc:title>Sin título de diapositiva</dc:title>
</cp:coreProperties>
</file>